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317160"/>
            <a:ext cx="1117584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5800" spc="-1" strike="noStrike">
              <a:solidFill>
                <a:srgbClr val="6e6151"/>
              </a:solidFill>
              <a:latin typeface="Baskervil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717280"/>
            <a:ext cx="11175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6033960"/>
            <a:ext cx="11175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5f5448"/>
              </a:solidFill>
              <a:latin typeface="Baskervill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317160"/>
            <a:ext cx="1117584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5800" spc="-1" strike="noStrike">
              <a:solidFill>
                <a:srgbClr val="6e6151"/>
              </a:solidFill>
              <a:latin typeface="Baskervil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717280"/>
            <a:ext cx="54536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1280" y="2717280"/>
            <a:ext cx="54536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6033960"/>
            <a:ext cx="54536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1280" y="6033960"/>
            <a:ext cx="54536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5f5448"/>
              </a:solidFill>
              <a:latin typeface="Baskervill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317160"/>
            <a:ext cx="1117584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5800" spc="-1" strike="noStrike">
              <a:solidFill>
                <a:srgbClr val="6e6151"/>
              </a:solidFill>
              <a:latin typeface="Baskervil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717280"/>
            <a:ext cx="35982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2960" y="2717280"/>
            <a:ext cx="35982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71520" y="2717280"/>
            <a:ext cx="35982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6033960"/>
            <a:ext cx="35982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92960" y="6033960"/>
            <a:ext cx="35982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71520" y="6033960"/>
            <a:ext cx="35982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5f5448"/>
              </a:solidFill>
              <a:latin typeface="Baskervill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317160"/>
            <a:ext cx="1117584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5800" spc="-1" strike="noStrike">
              <a:solidFill>
                <a:srgbClr val="6e6151"/>
              </a:solidFill>
              <a:latin typeface="Baskervil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914400" y="2717280"/>
            <a:ext cx="11175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5f5448"/>
              </a:solidFill>
              <a:latin typeface="Baskervill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317160"/>
            <a:ext cx="1117584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5800" spc="-1" strike="noStrike">
              <a:solidFill>
                <a:srgbClr val="6e6151"/>
              </a:solidFill>
              <a:latin typeface="Baskervill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2717280"/>
            <a:ext cx="11175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5f5448"/>
              </a:solidFill>
              <a:latin typeface="Baskervill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317160"/>
            <a:ext cx="1117584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5800" spc="-1" strike="noStrike">
              <a:solidFill>
                <a:srgbClr val="6e6151"/>
              </a:solidFill>
              <a:latin typeface="Baskervill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2717280"/>
            <a:ext cx="54536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641280" y="2717280"/>
            <a:ext cx="54536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5f5448"/>
              </a:solidFill>
              <a:latin typeface="Baskervill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317160"/>
            <a:ext cx="1117584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5800" spc="-1" strike="noStrike">
              <a:solidFill>
                <a:srgbClr val="6e6151"/>
              </a:solidFill>
              <a:latin typeface="Baskervill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914400" y="317160"/>
            <a:ext cx="1117584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5f5448"/>
              </a:solidFill>
              <a:latin typeface="Baskervill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317160"/>
            <a:ext cx="1117584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5800" spc="-1" strike="noStrike">
              <a:solidFill>
                <a:srgbClr val="6e6151"/>
              </a:solidFill>
              <a:latin typeface="Baskervil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2717280"/>
            <a:ext cx="54536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641280" y="2717280"/>
            <a:ext cx="54536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914400" y="6033960"/>
            <a:ext cx="54536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5f5448"/>
              </a:solidFill>
              <a:latin typeface="Baskervill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317160"/>
            <a:ext cx="1117584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5800" spc="-1" strike="noStrike">
              <a:solidFill>
                <a:srgbClr val="6e6151"/>
              </a:solidFill>
              <a:latin typeface="Baskervil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2717280"/>
            <a:ext cx="11175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5f5448"/>
              </a:solidFill>
              <a:latin typeface="Baskervill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317160"/>
            <a:ext cx="1117584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5800" spc="-1" strike="noStrike">
              <a:solidFill>
                <a:srgbClr val="6e6151"/>
              </a:solidFill>
              <a:latin typeface="Baskervill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2717280"/>
            <a:ext cx="54536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641280" y="2717280"/>
            <a:ext cx="54536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641280" y="6033960"/>
            <a:ext cx="54536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5f5448"/>
              </a:solidFill>
              <a:latin typeface="Baskervill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317160"/>
            <a:ext cx="1117584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5800" spc="-1" strike="noStrike">
              <a:solidFill>
                <a:srgbClr val="6e6151"/>
              </a:solidFill>
              <a:latin typeface="Baskervil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2717280"/>
            <a:ext cx="54536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641280" y="2717280"/>
            <a:ext cx="54536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14400" y="6033960"/>
            <a:ext cx="11175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5f5448"/>
              </a:solidFill>
              <a:latin typeface="Baskervill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317160"/>
            <a:ext cx="1117584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5800" spc="-1" strike="noStrike">
              <a:solidFill>
                <a:srgbClr val="6e6151"/>
              </a:solidFill>
              <a:latin typeface="Baskervill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2717280"/>
            <a:ext cx="11175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914400" y="6033960"/>
            <a:ext cx="11175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5f5448"/>
              </a:solidFill>
              <a:latin typeface="Baskervill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317160"/>
            <a:ext cx="1117584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5800" spc="-1" strike="noStrike">
              <a:solidFill>
                <a:srgbClr val="6e6151"/>
              </a:solidFill>
              <a:latin typeface="Baskervil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2717280"/>
            <a:ext cx="54536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641280" y="2717280"/>
            <a:ext cx="54536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6033960"/>
            <a:ext cx="54536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641280" y="6033960"/>
            <a:ext cx="54536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5f5448"/>
              </a:solidFill>
              <a:latin typeface="Baskervill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317160"/>
            <a:ext cx="1117584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5800" spc="-1" strike="noStrike">
              <a:solidFill>
                <a:srgbClr val="6e6151"/>
              </a:solidFill>
              <a:latin typeface="Baskervil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2717280"/>
            <a:ext cx="35982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92960" y="2717280"/>
            <a:ext cx="35982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471520" y="2717280"/>
            <a:ext cx="35982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914400" y="6033960"/>
            <a:ext cx="35982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4692960" y="6033960"/>
            <a:ext cx="35982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8471520" y="6033960"/>
            <a:ext cx="35982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5f5448"/>
              </a:solidFill>
              <a:latin typeface="Baskervil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317160"/>
            <a:ext cx="1117584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5800" spc="-1" strike="noStrike">
              <a:solidFill>
                <a:srgbClr val="6e6151"/>
              </a:solidFill>
              <a:latin typeface="Baskervill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2717280"/>
            <a:ext cx="11175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5f5448"/>
              </a:solidFill>
              <a:latin typeface="Baskervill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317160"/>
            <a:ext cx="1117584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5800" spc="-1" strike="noStrike">
              <a:solidFill>
                <a:srgbClr val="6e6151"/>
              </a:solidFill>
              <a:latin typeface="Baskervill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2717280"/>
            <a:ext cx="54536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1280" y="2717280"/>
            <a:ext cx="54536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5f5448"/>
              </a:solidFill>
              <a:latin typeface="Baskervill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317160"/>
            <a:ext cx="1117584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5800" spc="-1" strike="noStrike">
              <a:solidFill>
                <a:srgbClr val="6e6151"/>
              </a:solidFill>
              <a:latin typeface="Baskervill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317160"/>
            <a:ext cx="1117584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5f5448"/>
              </a:solidFill>
              <a:latin typeface="Baskervill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317160"/>
            <a:ext cx="1117584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5800" spc="-1" strike="noStrike">
              <a:solidFill>
                <a:srgbClr val="6e6151"/>
              </a:solidFill>
              <a:latin typeface="Baskervil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717280"/>
            <a:ext cx="54536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1280" y="2717280"/>
            <a:ext cx="54536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6033960"/>
            <a:ext cx="54536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5f5448"/>
              </a:solidFill>
              <a:latin typeface="Baskervill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317160"/>
            <a:ext cx="1117584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5800" spc="-1" strike="noStrike">
              <a:solidFill>
                <a:srgbClr val="6e6151"/>
              </a:solidFill>
              <a:latin typeface="Baskervill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717280"/>
            <a:ext cx="54536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1280" y="2717280"/>
            <a:ext cx="54536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1280" y="6033960"/>
            <a:ext cx="54536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5f5448"/>
              </a:solidFill>
              <a:latin typeface="Baskervill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317160"/>
            <a:ext cx="1117584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5800" spc="-1" strike="noStrike">
              <a:solidFill>
                <a:srgbClr val="6e6151"/>
              </a:solidFill>
              <a:latin typeface="Baskervil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717280"/>
            <a:ext cx="54536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1280" y="2717280"/>
            <a:ext cx="54536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6033960"/>
            <a:ext cx="11175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5f5448"/>
              </a:solidFill>
              <a:latin typeface="Baskervill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317160"/>
            <a:ext cx="1117584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5800" spc="-1" strike="noStrike">
                <a:solidFill>
                  <a:srgbClr val="6e6151"/>
                </a:solidFill>
                <a:latin typeface="Baskerville"/>
              </a:rPr>
              <a:t>Click to edit the title text format</a:t>
            </a:r>
            <a:endParaRPr b="0" lang="en-US" sz="5800" spc="-1" strike="noStrike">
              <a:solidFill>
                <a:srgbClr val="6e6151"/>
              </a:solidFill>
              <a:latin typeface="Baskervil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717280"/>
            <a:ext cx="11175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4000"/>
          </a:bodyPr>
          <a:p>
            <a:pPr marL="288000" indent="0">
              <a:spcBef>
                <a:spcPts val="38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5f5448"/>
                </a:solidFill>
                <a:latin typeface="Baskerville"/>
              </a:rPr>
              <a:t>Click to edit the outline text format</a:t>
            </a:r>
            <a:endParaRPr b="0" lang="en-US" sz="4200" spc="-1" strike="noStrike">
              <a:solidFill>
                <a:srgbClr val="5f5448"/>
              </a:solidFill>
              <a:latin typeface="Baskerville"/>
            </a:endParaRPr>
          </a:p>
          <a:p>
            <a:pPr lvl="1" marL="288000" indent="-288000">
              <a:spcBef>
                <a:spcPts val="3801"/>
              </a:spcBef>
              <a:buClr>
                <a:srgbClr val="5f5448"/>
              </a:buClr>
              <a:buFont typeface="Baskerville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5f5448"/>
                </a:solidFill>
                <a:latin typeface="Baskerville"/>
              </a:rPr>
              <a:t>Second Outline Level</a:t>
            </a:r>
            <a:endParaRPr b="0" lang="en-US" sz="4200" spc="-1" strike="noStrike">
              <a:solidFill>
                <a:srgbClr val="5f5448"/>
              </a:solidFill>
              <a:latin typeface="Baskerville"/>
            </a:endParaRPr>
          </a:p>
          <a:p>
            <a:pPr lvl="2" marL="288000" indent="-288000">
              <a:spcBef>
                <a:spcPts val="3801"/>
              </a:spcBef>
              <a:buClr>
                <a:srgbClr val="5f5448"/>
              </a:buClr>
              <a:buFont typeface="Baskerville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5f5448"/>
                </a:solidFill>
                <a:latin typeface="Baskerville"/>
              </a:rPr>
              <a:t>Third Outline Level</a:t>
            </a:r>
            <a:endParaRPr b="0" lang="en-US" sz="4200" spc="-1" strike="noStrike">
              <a:solidFill>
                <a:srgbClr val="5f5448"/>
              </a:solidFill>
              <a:latin typeface="Baskerville"/>
            </a:endParaRPr>
          </a:p>
          <a:p>
            <a:pPr lvl="3" marL="288000" indent="-288000">
              <a:spcBef>
                <a:spcPts val="3801"/>
              </a:spcBef>
              <a:buClr>
                <a:srgbClr val="5f5448"/>
              </a:buClr>
              <a:buFont typeface="Baskerville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5f5448"/>
                </a:solidFill>
                <a:latin typeface="Baskerville"/>
              </a:rPr>
              <a:t>Fourth Outline Level</a:t>
            </a:r>
            <a:endParaRPr b="0" lang="en-US" sz="4200" spc="-1" strike="noStrike">
              <a:solidFill>
                <a:srgbClr val="5f5448"/>
              </a:solidFill>
              <a:latin typeface="Baskerville"/>
            </a:endParaRPr>
          </a:p>
          <a:p>
            <a:pPr lvl="4" marL="288000" indent="-288000">
              <a:spcBef>
                <a:spcPts val="3801"/>
              </a:spcBef>
              <a:buClr>
                <a:srgbClr val="5f5448"/>
              </a:buClr>
              <a:buFont typeface="Baskerville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5f5448"/>
                </a:solidFill>
                <a:latin typeface="Baskerville"/>
              </a:rPr>
              <a:t>Fifth Outline Level</a:t>
            </a:r>
            <a:endParaRPr b="0" lang="en-US" sz="4200" spc="-1" strike="noStrike">
              <a:solidFill>
                <a:srgbClr val="5f5448"/>
              </a:solidFill>
              <a:latin typeface="Baskerville"/>
            </a:endParaRPr>
          </a:p>
          <a:p>
            <a:pPr lvl="5" marL="288000" indent="-288000">
              <a:spcBef>
                <a:spcPts val="3801"/>
              </a:spcBef>
              <a:buClr>
                <a:srgbClr val="6e6151"/>
              </a:buClr>
              <a:buFont typeface="Baskerville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5f5448"/>
                </a:solidFill>
                <a:latin typeface="Baskerville"/>
              </a:rPr>
              <a:t>Sixth Outline Level</a:t>
            </a:r>
            <a:endParaRPr b="0" lang="en-US" sz="4200" spc="-1" strike="noStrike">
              <a:solidFill>
                <a:srgbClr val="5f5448"/>
              </a:solidFill>
              <a:latin typeface="Baskerville"/>
            </a:endParaRPr>
          </a:p>
          <a:p>
            <a:pPr lvl="6" marL="288000" indent="-288000">
              <a:spcBef>
                <a:spcPts val="3801"/>
              </a:spcBef>
              <a:buClr>
                <a:srgbClr val="6e6151"/>
              </a:buClr>
              <a:buFont typeface="Baskerville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5f5448"/>
                </a:solidFill>
                <a:latin typeface="Baskerville"/>
              </a:rPr>
              <a:t>Seventh Outline Level</a:t>
            </a:r>
            <a:endParaRPr b="0" lang="en-US" sz="4200" spc="-1" strike="noStrike">
              <a:solidFill>
                <a:srgbClr val="5f5448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7010280"/>
            <a:ext cx="11175840" cy="198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5800" spc="-1" strike="noStrike">
                <a:solidFill>
                  <a:srgbClr val="6e6151"/>
                </a:solidFill>
                <a:latin typeface="Baskerville"/>
              </a:rPr>
              <a:t>Click to edit the title text format</a:t>
            </a:r>
            <a:endParaRPr b="0" lang="en-US" sz="5800" spc="-1" strike="noStrike">
              <a:solidFill>
                <a:srgbClr val="6e6151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Group 1"/>
          <p:cNvGrpSpPr/>
          <p:nvPr/>
        </p:nvGrpSpPr>
        <p:grpSpPr>
          <a:xfrm>
            <a:off x="2413080" y="1434960"/>
            <a:ext cx="8176320" cy="5153760"/>
            <a:chOff x="2413080" y="1434960"/>
            <a:chExt cx="8176320" cy="5153760"/>
          </a:xfrm>
        </p:grpSpPr>
        <p:pic>
          <p:nvPicPr>
            <p:cNvPr id="76" name="Picture 2" descr="CA20172-1-small.jpg"/>
            <p:cNvPicPr/>
            <p:nvPr/>
          </p:nvPicPr>
          <p:blipFill>
            <a:blip r:embed="rId1"/>
            <a:srcRect l="0" t="1640" r="0" b="1640"/>
            <a:stretch/>
          </p:blipFill>
          <p:spPr>
            <a:xfrm>
              <a:off x="2570400" y="1589400"/>
              <a:ext cx="7847280" cy="48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3" descr=""/>
            <p:cNvPicPr/>
            <p:nvPr/>
          </p:nvPicPr>
          <p:blipFill>
            <a:blip r:embed="rId2"/>
            <a:stretch/>
          </p:blipFill>
          <p:spPr>
            <a:xfrm>
              <a:off x="2413080" y="1434960"/>
              <a:ext cx="8176320" cy="5153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7010280"/>
            <a:ext cx="11175840" cy="198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5800" spc="-1" strike="noStrike">
                <a:solidFill>
                  <a:srgbClr val="7a8092"/>
                </a:solidFill>
                <a:latin typeface="Cochin"/>
                <a:ea typeface="Cochin"/>
              </a:rPr>
              <a:t>OCT.7</a:t>
            </a:r>
            <a:br>
              <a:rPr sz="5800"/>
            </a:br>
            <a:r>
              <a:rPr b="0" lang="en-US" sz="5800" spc="-1" strike="noStrike">
                <a:solidFill>
                  <a:srgbClr val="7a8092"/>
                </a:solidFill>
                <a:latin typeface="Cochin"/>
                <a:ea typeface="Cochin"/>
              </a:rPr>
              <a:t>REMEMBER A PAGE OF NOTES/RESPONSES A DAY</a:t>
            </a:r>
            <a:endParaRPr b="0" lang="en-US" sz="5800" spc="-1" strike="noStrike">
              <a:solidFill>
                <a:srgbClr val="6e6151"/>
              </a:solidFill>
              <a:latin typeface="Baskervill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317160"/>
            <a:ext cx="11175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5800" spc="-1" strike="noStrike">
                <a:solidFill>
                  <a:srgbClr val="6e6151"/>
                </a:solidFill>
                <a:latin typeface="Baskerville"/>
              </a:rPr>
              <a:t>Questions</a:t>
            </a:r>
            <a:endParaRPr b="0" lang="en-US" sz="5800" spc="-1" strike="noStrike">
              <a:solidFill>
                <a:srgbClr val="6e6151"/>
              </a:solidFill>
              <a:latin typeface="Baskervil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63280" y="1828440"/>
            <a:ext cx="115822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8000"/>
          </a:bodyPr>
          <a:p>
            <a:pPr indent="0"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  <a:p>
            <a:pPr>
              <a:spcBef>
                <a:spcPts val="3801"/>
              </a:spcBef>
              <a:buClr>
                <a:srgbClr val="5f5448"/>
              </a:buClr>
              <a:buSzPct val="80000"/>
              <a:buFont typeface="Baskervill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5f5448"/>
                </a:solidFill>
                <a:latin typeface="Baskerville"/>
              </a:rPr>
              <a:t>What is symbolic of Sarah's dream of the blackbird?</a:t>
            </a:r>
            <a:endParaRPr b="0" lang="en-US" sz="2400" spc="-1" strike="noStrike">
              <a:solidFill>
                <a:srgbClr val="5f5448"/>
              </a:solidFill>
              <a:latin typeface="Baskerville"/>
            </a:endParaRPr>
          </a:p>
          <a:p>
            <a:pPr>
              <a:spcBef>
                <a:spcPts val="3801"/>
              </a:spcBef>
              <a:buClr>
                <a:srgbClr val="5f5448"/>
              </a:buClr>
              <a:buSzPct val="80000"/>
              <a:buFont typeface="Baskervill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5f5448"/>
                </a:solidFill>
                <a:latin typeface="Baskerville"/>
              </a:rPr>
              <a:t>How does gossip play into the story?</a:t>
            </a:r>
            <a:endParaRPr b="0" lang="en-US" sz="2400" spc="-1" strike="noStrike">
              <a:solidFill>
                <a:srgbClr val="5f5448"/>
              </a:solidFill>
              <a:latin typeface="Baskerville"/>
            </a:endParaRPr>
          </a:p>
          <a:p>
            <a:pPr>
              <a:spcBef>
                <a:spcPts val="3801"/>
              </a:spcBef>
              <a:buClr>
                <a:srgbClr val="5f5448"/>
              </a:buClr>
              <a:buSzPct val="80000"/>
              <a:buFont typeface="Baskervill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5f5448"/>
                </a:solidFill>
                <a:latin typeface="Baskerville"/>
              </a:rPr>
              <a:t>How does the Bible verse that James points to relate to what is happening to the family? </a:t>
            </a:r>
            <a:endParaRPr b="0" lang="en-US" sz="2400" spc="-1" strike="noStrike">
              <a:solidFill>
                <a:srgbClr val="5f5448"/>
              </a:solidFill>
              <a:latin typeface="Baskerville"/>
            </a:endParaRPr>
          </a:p>
          <a:p>
            <a:pPr>
              <a:spcBef>
                <a:spcPts val="3801"/>
              </a:spcBef>
              <a:buClr>
                <a:srgbClr val="5f5448"/>
              </a:buClr>
              <a:buSzPct val="80000"/>
              <a:buFont typeface="Baskervill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5f5448"/>
                </a:solidFill>
                <a:latin typeface="Baskerville"/>
              </a:rPr>
              <a:t>Why does their father decide to take them to church?</a:t>
            </a:r>
            <a:endParaRPr b="0" lang="en-US" sz="2400" spc="-1" strike="noStrike">
              <a:solidFill>
                <a:srgbClr val="5f5448"/>
              </a:solidFill>
              <a:latin typeface="Baskerville"/>
            </a:endParaRPr>
          </a:p>
          <a:p>
            <a:pPr>
              <a:spcBef>
                <a:spcPts val="3801"/>
              </a:spcBef>
              <a:buClr>
                <a:srgbClr val="5f5448"/>
              </a:buClr>
              <a:buSzPct val="80000"/>
              <a:buFont typeface="Baskervill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5f5448"/>
                </a:solidFill>
                <a:latin typeface="Baskerville"/>
              </a:rPr>
              <a:t>Find the simile on page 222</a:t>
            </a:r>
            <a:endParaRPr b="0" lang="en-US" sz="2400" spc="-1" strike="noStrike">
              <a:solidFill>
                <a:srgbClr val="5f5448"/>
              </a:solidFill>
              <a:latin typeface="Baskerville"/>
            </a:endParaRPr>
          </a:p>
          <a:p>
            <a:pPr>
              <a:spcBef>
                <a:spcPts val="3801"/>
              </a:spcBef>
              <a:buClr>
                <a:srgbClr val="5f5448"/>
              </a:buClr>
              <a:buSzPct val="80000"/>
              <a:buFont typeface="Baskervill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5f5448"/>
                </a:solidFill>
                <a:latin typeface="Baskerville"/>
              </a:rPr>
              <a:t>What is ironic about the "test" of witches?</a:t>
            </a:r>
            <a:endParaRPr b="0" lang="en-US" sz="2400" spc="-1" strike="noStrike">
              <a:solidFill>
                <a:srgbClr val="5f5448"/>
              </a:solidFill>
              <a:latin typeface="Baskerville"/>
            </a:endParaRPr>
          </a:p>
          <a:p>
            <a:pPr>
              <a:spcBef>
                <a:spcPts val="3801"/>
              </a:spcBef>
              <a:buClr>
                <a:srgbClr val="5f5448"/>
              </a:buClr>
              <a:buSzPct val="80000"/>
              <a:buFont typeface="Baskervill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5f5448"/>
                </a:solidFill>
                <a:latin typeface="Baskerville"/>
              </a:rPr>
              <a:t>Why does her father name every man, and where he lives?</a:t>
            </a:r>
            <a:endParaRPr b="0" lang="en-US" sz="2400" spc="-1" strike="noStrike">
              <a:solidFill>
                <a:srgbClr val="5f5448"/>
              </a:solidFill>
              <a:latin typeface="Baskerville"/>
            </a:endParaRPr>
          </a:p>
          <a:p>
            <a:pPr>
              <a:spcBef>
                <a:spcPts val="3801"/>
              </a:spcBef>
              <a:buClr>
                <a:srgbClr val="5f5448"/>
              </a:buClr>
              <a:buSzPct val="80000"/>
              <a:buFont typeface="Baskervill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5f5448"/>
                </a:solidFill>
                <a:latin typeface="Baskerville"/>
              </a:rPr>
              <a:t>What does Sarah find out about her father?</a:t>
            </a:r>
            <a:endParaRPr b="0" lang="en-US" sz="2400" spc="-1" strike="noStrike">
              <a:solidFill>
                <a:srgbClr val="5f5448"/>
              </a:solidFill>
              <a:latin typeface="Baskerville"/>
            </a:endParaRPr>
          </a:p>
          <a:p>
            <a:pPr>
              <a:spcBef>
                <a:spcPts val="3801"/>
              </a:spcBef>
              <a:buClr>
                <a:srgbClr val="5f5448"/>
              </a:buClr>
              <a:buSzPct val="80000"/>
              <a:buFont typeface="Baskervill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5f5448"/>
                </a:solidFill>
                <a:latin typeface="Baskerville"/>
              </a:rPr>
              <a:t>Comment on anything that stood out to you, or a question you might have.</a:t>
            </a:r>
            <a:endParaRPr b="0" lang="en-US" sz="2400" spc="-1" strike="noStrike">
              <a:solidFill>
                <a:srgbClr val="5f5448"/>
              </a:solidFill>
              <a:latin typeface="Baskervill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317160"/>
            <a:ext cx="1117584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5800" spc="-1" strike="noStrike">
                <a:solidFill>
                  <a:srgbClr val="6e6151"/>
                </a:solidFill>
                <a:latin typeface="Baskerville"/>
              </a:rPr>
              <a:t>Vocabulary</a:t>
            </a:r>
            <a:endParaRPr b="0" lang="en-US" sz="5800" spc="-1" strike="noStrike">
              <a:solidFill>
                <a:srgbClr val="6e6151"/>
              </a:solidFill>
              <a:latin typeface="Baskervill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2717280"/>
            <a:ext cx="11175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17520" indent="-317520">
              <a:spcBef>
                <a:spcPts val="3801"/>
              </a:spcBef>
              <a:buClr>
                <a:srgbClr val="5f5448"/>
              </a:buClr>
              <a:buSzPct val="80000"/>
              <a:buFont typeface="Baskervill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5f5448"/>
                </a:solidFill>
                <a:latin typeface="Baskerville"/>
              </a:rPr>
              <a:t>Fey</a:t>
            </a: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  <a:p>
            <a:pPr marL="317520" indent="-317520">
              <a:spcBef>
                <a:spcPts val="3801"/>
              </a:spcBef>
              <a:buClr>
                <a:srgbClr val="5f5448"/>
              </a:buClr>
              <a:buSzPct val="80000"/>
              <a:buFont typeface="Baskervill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5f5448"/>
                </a:solidFill>
                <a:latin typeface="Baskerville"/>
              </a:rPr>
              <a:t>Maleficence </a:t>
            </a: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  <a:p>
            <a:pPr marL="317520" indent="-317520">
              <a:spcBef>
                <a:spcPts val="3801"/>
              </a:spcBef>
              <a:buClr>
                <a:srgbClr val="5f5448"/>
              </a:buClr>
              <a:buSzPct val="80000"/>
              <a:buFont typeface="Baskervill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5f5448"/>
                </a:solidFill>
                <a:latin typeface="Baskerville"/>
              </a:rPr>
              <a:t>Cleaving</a:t>
            </a: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  <a:p>
            <a:pPr marL="317520" indent="-317520">
              <a:spcBef>
                <a:spcPts val="3801"/>
              </a:spcBef>
              <a:buClr>
                <a:srgbClr val="5f5448"/>
              </a:buClr>
              <a:buSzPct val="80000"/>
              <a:buFont typeface="Baskervill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5f5448"/>
                </a:solidFill>
                <a:latin typeface="Baskerville"/>
              </a:rPr>
              <a:t>Scythe</a:t>
            </a: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  <a:p>
            <a:pPr marL="317520" indent="-317520">
              <a:spcBef>
                <a:spcPts val="3801"/>
              </a:spcBef>
              <a:buClr>
                <a:srgbClr val="5f5448"/>
              </a:buClr>
              <a:buSzPct val="80000"/>
              <a:buFont typeface="Baskervill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5f5448"/>
                </a:solidFill>
                <a:latin typeface="Baskerville"/>
              </a:rPr>
              <a:t>Obsidian </a:t>
            </a: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317160"/>
            <a:ext cx="1117584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5800" spc="-1" strike="noStrike">
                <a:solidFill>
                  <a:srgbClr val="6e6151"/>
                </a:solidFill>
                <a:latin typeface="Baskerville"/>
              </a:rPr>
              <a:t>Homework</a:t>
            </a:r>
            <a:endParaRPr b="0" lang="en-US" sz="5800" spc="-1" strike="noStrike">
              <a:solidFill>
                <a:srgbClr val="6e6151"/>
              </a:solidFill>
              <a:latin typeface="Baskerville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914400" y="2717280"/>
            <a:ext cx="11175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-343080">
              <a:spcBef>
                <a:spcPts val="38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5f5448"/>
                </a:solidFill>
                <a:latin typeface="Baskerville"/>
              </a:rPr>
              <a:t>Finish packet</a:t>
            </a:r>
            <a:endParaRPr b="0" lang="en-US" sz="4200" spc="-1" strike="noStrike">
              <a:solidFill>
                <a:srgbClr val="5f5448"/>
              </a:solidFill>
              <a:latin typeface="Baskerville"/>
            </a:endParaRPr>
          </a:p>
          <a:p>
            <a:pPr marL="343080" indent="-343080">
              <a:spcBef>
                <a:spcPts val="38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5f5448"/>
                </a:solidFill>
                <a:latin typeface="Baskerville"/>
              </a:rPr>
              <a:t>Be prepared for quiz, or writing assignment</a:t>
            </a:r>
            <a:endParaRPr b="0" lang="en-US" sz="4200" spc="-1" strike="noStrike">
              <a:solidFill>
                <a:srgbClr val="5f5448"/>
              </a:solidFill>
              <a:latin typeface="Baskervil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gie McCall</dc:creator>
  <dc:description/>
  <dc:language>en-US</dc:language>
  <cp:lastModifiedBy>Angie McCall</cp:lastModifiedBy>
  <dcterms:modified xsi:type="dcterms:W3CDTF">2013-10-07T16:36:53Z</dcterms:modified>
  <cp:revision>5</cp:revision>
  <dc:subject/>
  <dc:title>OCT.7 REMEMBER A PAGE OF NOTES/RESPONSES A DAY</dc:title>
</cp:coreProperties>
</file>